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C773-5E13-4A7B-8084-77DCF9EF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0AD-4CCA-4A26-A880-40E40C94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49F-AA60-4B84-9BF9-0CA8382A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AAC-F99A-4F90-AAA8-C2900FA7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BBB-AE54-49B5-A0EE-4ED66C83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59C-CEAC-4DBE-B9B9-A297C7EE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BF3-7388-4A8B-89EC-A0502E11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2EA-C87B-4658-A4F8-67151934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DF5-9FF9-4F07-8BB2-8BA5CA5F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798-D167-44D7-8F47-78E833B1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409-0A3B-4445-B469-374352D1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D38-397C-4231-BC28-A0831C30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D115-AA02-404A-B847-991BD31BE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travel-to-egypt.net/images/Nile_River_Pictures.jpg&amp;imgrefurl=http://www.travel-to-egypt.net/nile-river-pictures.html&amp;usg=__AQSmaymBBYV13WqxmtKzF5rQ0Xw=&amp;h=266&amp;w=399&amp;sz=75&amp;hl=en&amp;start=9&amp;um=1&amp;tbnid=Xh2hKmkMjTcaDM:&amp;tbnh=83&amp;tbnw=124&amp;prev=/images%3Fq%3Dnile%2Briver%26hl%3Den%26sa%3D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ndrew 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16360" y="1341360"/>
            <a:ext cx="352404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 Black"/>
              </a:rPr>
              <a:t>The Nile Ri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"/>
              </a:rPr>
              <a:t>The Nile river is located in Egypt, Africa and flows through Uganda, Rwanda, Ethiopia, Eritrea, Kenya, Burundi, Sudan , Tanzania and The Democratic Republic of Con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4076640"/>
            <a:ext cx="31255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780000" y="0"/>
            <a:ext cx="431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End of slide show, Click to exi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5000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The Nile River is The longest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ustralia is c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odzi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04:32:16Z</dcterms:created>
  <dc:creator>andrew.bell</dc:creator>
  <dc:description/>
  <dc:language>en-US</dc:language>
  <cp:lastModifiedBy>andrew.bell</cp:lastModifiedBy>
  <dcterms:modified xsi:type="dcterms:W3CDTF">2009-06-24T05:00:08Z</dcterms:modified>
  <cp:revision>2</cp:revision>
  <dc:subject/>
  <dc:title>Slide 1</dc:title>
</cp:coreProperties>
</file>